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7.jpeg" ContentType="image/jpeg"/>
  <Override PartName="/ppt/media/image5.wmf" ContentType="image/x-wmf"/>
  <Override PartName="/ppt/media/image13.jpeg" ContentType="image/jpeg"/>
  <Override PartName="/ppt/media/image22.wmf" ContentType="image/x-wmf"/>
  <Override PartName="/ppt/media/image20.wmf" ContentType="image/x-wmf"/>
  <Override PartName="/ppt/media/image1.jpeg" ContentType="image/jpeg"/>
  <Override PartName="/ppt/media/image4.wmf" ContentType="image/x-wmf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ED8-571A-4F7F-81D6-D105CD9C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324-0B53-448C-82C1-765CE79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2A5-2345-4864-A559-824D994E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268-0A9A-460C-8D67-35DC7570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414FB-31C1-462C-8385-A0CBD4AF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C88A-674E-417F-9F87-024EE270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F5EB2-D9CC-4F06-AD01-5605A903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7081-BE56-491D-A566-856B5EDF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CC716-A359-4A90-959D-C1078F3D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203E4-89DC-4CC4-B9E6-B101C6D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14F28-65DC-4E96-AA68-F4F9790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541-9A28-4B72-B388-0149740E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3F680-875F-4AA5-84CC-FD799A8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59EA5-58CE-4CE5-8C64-AAF479F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47BA3-3B11-47B9-8918-59F118F9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205EF-37B4-4FA8-AF7B-5DBC1DD6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42B30-3E90-40A5-9337-795FA6D2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678-6A3D-44C6-A0F0-3958225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F5A-3BE5-4E56-B1B2-9B0A4C6D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7F0-54EC-42DD-8379-A4A5067A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602-BE09-4D13-890D-95D5356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F12-45EF-4104-96B1-8DC051A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B34-5A64-42A1-B712-5AED526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D7F-8D30-42BF-A223-9AF8D00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89A9-D1A6-4AC2-A81C-3DEC08509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005D-DF00-4030-9C4C-7C228AB16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mycivilwar.com/facts/info-medicine.htm#top" TargetMode="External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followingtheequator.com/Travels/VA_NC_2006/Norfolk_VA_2006/Norfolk_Hampton_Roads_2006_067.jpg&amp;imgrefurl=http://www.followingtheequator.com/Travels/VA_NC_2006/Norfolk_VA_2006/index.htm&amp;usg=__NBmEHmtxmPNSbXLLNl-5AVm5vGc=&amp;h=1024&amp;w=768&amp;sz=60&amp;hl=en&amp;start=28&amp;tbnid=55_8qLE5mwUwCM:&amp;tbnh=150&amp;tbnw=113&amp;prev=/images%3Fq%3Dcivil%2Bwar%2Bmedicine%26gbv%3D2%26ndsp%3D20%26hl%3Den%26safe%3Dactive%26sa%3DN%26start%3D20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hyperlink" Target="http://www.braceface.com/medical/Bottle_images/Civil_War_tin_medicine_container.JPG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m/imgres?imgurl=http://www.davidsonsfort.com/images/amputations.jpg&amp;imgrefurl=http://www.davidsonsfort.com/civil_war_battle_photo_gallery.htm&amp;usg=__PQBnqBsiUwAxyoN6rl5d-M22Hes=&amp;h=2448&amp;w=3264&amp;sz=1654&amp;hl=en&amp;start=9&amp;um=1&amp;tbnid=TbepD_x39iXv6M:&amp;tbnh=113&amp;tbnw=150&amp;prev=/images%3Fq%3Dcivil%2Bwar%2Bamputations%26hl%3Den%26safe%3Dactive%26um%3D1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ahoma"/>
              </a:rPr>
              <a:t>Medical and Surgical procedur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rli            umm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ssica             atc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88416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038480" y="4038480"/>
            <a:ext cx="897120" cy="793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0" y="5029200"/>
            <a:ext cx="67140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876920" y="4876920"/>
            <a:ext cx="669960" cy="7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Facts about amputa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ree out of four wounds were to the extremities. In the Union Army, this led to 30,000 amput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f 11,000 Union physicians, 500 had performed surgery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 surgeon would scrape the end and edges of the bone smooth, so that they would not work back through the ski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ahoma"/>
              </a:rPr>
              <a:t>Why it is importan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This is important because now we know what kind of medicines and tools that they 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We all need to remember how much the medicine and tools that they used and how much we appreciate how much pain we don’t have to go through like they d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310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ork cited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you enjoyed our presentation! Thank you and have a nice day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ahoma"/>
                <a:hlinkClick r:id="rId4"/>
              </a:rPr>
              <a:t>http://www.mycivilwar.com/facts/info-medicine.htm#t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sonofthesouth.net/leefoundation/civil-war-medicine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http://images.google.com/images?hl=en&amp;safe=active&amp;um=1&amp;q=civil+war+amputations&amp;sa=N&amp;start=60&amp;ndsp=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ahoma"/>
              </a:rPr>
              <a:t>What you will lear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You will be learning about the tools that they use to do medical proced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 will also be talking about how they would perform the ste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d also be talking about the different medicines they used to cure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162920" y="441972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93ff"/>
                </a:solidFill>
                <a:latin typeface="Tahoma"/>
              </a:rPr>
              <a:t>Myth or Fact?!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In 1861 the sanitary commission report issued a widely disseminated, and included many guidelines to improve sanitation and reduced the disease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Three out of four wounds were to the extremities. In the Union Army, this led to 10,000 amput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90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24280" y="50292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The me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here was twice as many men that had died from diseases than they did from gunsh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It was all measles, small pox, and many more other diseases that they have died fr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he prisoners had it even worse then the civil war who were held in the most miserable of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Sanitary Commiss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 Sanitary Commission tried to educate the army on proper sanitation techniques to help stop the spread of disease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 1861 the sanitary commission report issued a widely disseminated, and included many guidelines to improve sanitation and reduced the disease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amous surgeon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Edward Kitto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Hartwell Carver Tompk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Winslow H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John Shaw Bill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33720" y="685800"/>
            <a:ext cx="4190760" cy="22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35440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981080" y="2743200"/>
            <a:ext cx="263844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895480"/>
            <a:ext cx="205740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19720" y="2971800"/>
            <a:ext cx="3381120" cy="254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6248520" y="0"/>
            <a:ext cx="2455920" cy="3200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7105680" y="396252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Amputa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Leg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tourniquet, a saw, and a knif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Below the knee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tourniquet, and a saw, and kn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Arm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tourniquet, a saw, and a kn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Finger and toe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saw, a knife, and pli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57600" y="609480"/>
            <a:ext cx="5486400" cy="1276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acts about medicin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Civil War medicine was in a time before the doctors even knew much about bacteriology and were ignorant of what caused disea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  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The medicines brought in to try and halt diseases were manufactured in the North for the most part; the Southerners had to deal with running the Union blockad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52:15Z</dcterms:created>
  <dc:creator>karliamummert</dc:creator>
  <dc:description/>
  <dc:language>en-US</dc:language>
  <cp:lastModifiedBy>karliamummert</cp:lastModifiedBy>
  <dcterms:modified xsi:type="dcterms:W3CDTF">2009-03-23T12:21:51Z</dcterms:modified>
  <cp:revision>12</cp:revision>
  <dc:subject/>
  <dc:title>Medical and Surgical procedures!</dc:title>
</cp:coreProperties>
</file>